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5300-0E56-4E24-8D63-80A38C7D6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D9CD-8D84-43B3-BF91-6EFAA2085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F9B6-CBAF-4A32-9159-E1835FF31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9D1B-7D9B-496A-8A3B-09501B66F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016E-C572-43CF-88EE-939AD7A06E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7471-F60E-4C6C-8C45-F709CC3CEF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7A3F-9E59-4D00-980E-157F8B15F9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04A1-F110-445C-B360-23DE8F7FB9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0A28-3F78-4BA6-8312-BA40FE802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B329-09C8-48F9-8278-1ED34ED4D2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384E-CB75-4A82-B69C-3B50E9893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5399-B77D-4166-92DF-32A42E82F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3D08-9ACD-4477-91D4-62B6C85EFB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6913-B818-434B-9BA2-1E666AC766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A68F-4B98-4632-8724-D472A08003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F7BD-4CF4-44BB-B78C-CE932D6F3A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2E28-4161-4E2D-B8AF-80AE087690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EBD8B-A591-46D8-8E8A-53F0F09A30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84420-93E2-407D-A69C-75D47FB9D1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9E45D-0EC3-4DA0-B72A-010B16E355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AA8D4-00CF-4440-B2D5-BED24DD9AA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5F742-2A13-4895-A362-A8FCDCD6E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6E3E-CE4E-4125-8B12-54460CABCE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AE17-361C-4715-97C9-CFBAD5AB9A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0BEDC-595C-4ADB-AD42-DF4C627C1B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9D33C-F846-4ECD-A19F-7CE5A91AFA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B32D7-B1F2-489F-8BE9-9531BA0015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FB9C1-06A6-43D6-85E6-650F314470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B611B-7410-4E7E-B124-43F1680D27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EE9E-0602-4E40-A018-EE7AC7CB9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888D-79D5-438B-B586-B67E4DF85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920C-60E2-493D-8773-39FBB63F5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2BF9-6F49-43BD-9E31-0B5092995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41BD-2632-4B8C-9DB6-B30C8F5A4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F956-2ED8-4288-A3E4-A41764445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383A-E4AF-464D-A08E-100CB0FAA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B35D-BB72-4744-9939-79393493571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8"/>
          <p:cNvSpPr/>
          <p:nvPr/>
        </p:nvSpPr>
        <p:spPr>
          <a:xfrm rot="16200000">
            <a:off x="-925560" y="1965600"/>
            <a:ext cx="28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4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704A-E8C3-426F-AC63-64BCCA00D32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87708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elik Budya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 rot="16200000">
            <a:off x="-945360" y="187488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7F2-F7EE-4C0C-A5E2-1F693C2C6E0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87708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elik Budya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 rot="16200000">
            <a:off x="-945360" y="194580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lik Budya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763640" y="1916280"/>
            <a:ext cx="604836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roject Life Cycl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roduct Life Cyc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D9AA-3E7E-423C-A443-DBE6780B101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vs Product life cycl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6269040" cy="2724120"/>
          </a:xfrm>
          <a:prstGeom prst="rect">
            <a:avLst/>
          </a:prstGeom>
          <a:ln w="0">
            <a:noFill/>
          </a:ln>
        </p:spPr>
      </p:pic>
      <p:sp>
        <p:nvSpPr>
          <p:cNvPr id="178" name="Oval 6"/>
          <p:cNvSpPr/>
          <p:nvPr/>
        </p:nvSpPr>
        <p:spPr>
          <a:xfrm>
            <a:off x="2556000" y="3068640"/>
            <a:ext cx="403200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FD0A-10F1-44B8-A1BD-4689655045F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vs Product life cycl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W want to make new BMW 3se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Product life cycle star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, introduction, growth, mature, decline, and de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phase itself become Project life cycle, start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planning, executing, deliv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0639-B507-4FEA-AE1B-F35A50B4B8B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cycle is a Process, that has specific sequence and no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ife cycle have some same concepts with life cycle, the different is in sequence, which is: in life cycle there is specific phase and sequence and no ending and it’s always like that. In Project life cycle there is also a sequence but it’s possible to jump to next phase or back to prior phase and it always has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ife cycle is part of any other life cycle, because Project life cycle applies in al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26E-574F-40B6-B7AF-2A8A54338C0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619280" y="3573360"/>
            <a:ext cx="70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 for your atten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D471-A392-4072-AEB5-63861BBFB41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55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19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79640" y="1773360"/>
            <a:ext cx="648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Life Cycle Concep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Project Life Cycle Concep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Product Life Cycle concep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Project Life Cycle vs Product Life Cycle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0F40-565C-461F-B195-C96E8E89DA0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489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fe Cyc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s continuously &amp; unidirec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is oblig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ginning o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quence cannot b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844D-8F16-4848-84A6-45409AC5347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489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 – seedling – mature plant – blossom – s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ed cannot go directly to being mature plan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e plant cannot revert back to a s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41B7-A01F-4DA3-8C17-39F996394A2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roject life cyc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is divided into phases to achieve bett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the phases that connect the beginning of a project to its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hases vary by project but some general phase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return to prior phase and jump to anothe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uncommon for the next phase to begin without closing the current phase. Also known as ‘Fast Track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F554-CAE9-484F-A413-0C90F14CB5E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B16-AF67-4ECA-AA2B-0E6355EDB82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du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roduct life cyc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life span of a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duct have very long life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duct have very short life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sible to jump to another phase or return to pr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s vary by product but some general phase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 or 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ioration (Dec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60F5-C25E-4311-BF7B-57D1735AF202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du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187280" y="1476360"/>
            <a:ext cx="76996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A478-4BAC-4966-8234-8AC2372E3B6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vs Product life cycl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life cycle applies to all projects, regardless of the products being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life cycle models vary considerably based on the nature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 is done in all of the product life cycle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ife cycle is part of any other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K4MIKAZ3</cp:lastModifiedBy>
  <dcterms:modified xsi:type="dcterms:W3CDTF">2008-10-29T20:01:47Z</dcterms:modified>
  <cp:revision>36</cp:revision>
  <dc:subject/>
  <dc:title>Simulation Methods and Educational Educational Games for Project Management</dc:title>
</cp:coreProperties>
</file>